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F37-24C7-4766-AF3A-1AC12C1B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9F3-3446-48FD-B439-B342030B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EBC-8234-4349-A407-EE88C427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1BF-A7C9-4A63-AE92-B304DB2A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FC22B-6A50-47C6-8A8D-F3DF7409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05D20-EECA-48E7-9486-86068C4F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91C24-543E-4A62-BE32-1C7EA9A8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88444-3F12-4A51-BC73-A68D84D3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39FD6-55EE-44DA-8295-C744703E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A9C79-8B57-48CB-A5A0-4B4CE2A0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A7DF0-206B-466C-AB83-E24456BC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5C9-C510-468F-A53F-6DA164E4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A6742-BEF1-43BC-A8D2-20389549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A41C0-AB46-4D38-A4CA-D5E80644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BAF4B-AEA7-4B73-834F-4966A45A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D6B2C-CA03-43D4-A547-CA2F0BCE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9D98A-DFA6-4842-B4DA-045DC64B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909-5515-425E-8449-A7FF64DA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19E-7803-46E2-B21F-8400D5B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013-6290-4284-A443-3DFDB414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406-E093-470D-92AC-61677E07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7F3-2BAD-47BD-A1A2-81C5D653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B27-4EEC-4DB2-945D-FA1B9F19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3E2-FEA4-4F6C-AEDD-B9D5FCF7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1B3C-220B-47E8-90EA-5C032FFD015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6EB6-53B4-4211-BD6D-A8EF222DC3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4726-F26E-438F-8EAA-1209641C52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5958-5B74-4DF7-B032-C1AA61AC6B9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60040" y="3483000"/>
            <a:ext cx="6777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Perpetua"/>
              </a:rPr>
              <a:t>Oleh. </a:t>
            </a: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Fully Handayani R, S.H., M.Kn</a:t>
            </a:r>
            <a:r>
              <a:rPr b="0" lang="id-ID" sz="3200" spc="-1" strike="noStrike">
                <a:solidFill>
                  <a:srgbClr val="ffffff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830C-219D-4483-A8E3-D6DE72239B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ffffff"/>
                </a:solidFill>
                <a:latin typeface="Franklin Gothic Book"/>
              </a:rPr>
              <a:t>PENGANTAR HUKUM INDONESIA</a:t>
            </a:r>
            <a:br>
              <a:rPr sz="4400"/>
            </a:br>
            <a:r>
              <a:rPr b="0" lang="id-ID" sz="4400" spc="-1" strike="noStrike">
                <a:solidFill>
                  <a:srgbClr val="ffffff"/>
                </a:solidFill>
                <a:latin typeface="Franklin Gothic Book"/>
              </a:rPr>
              <a:t>MATERI  HUKUM  PIDA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5DF9-DDFF-4980-ACED-7C3E282822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2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9960" indent="-489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as Tidak Berlaku Suru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9960" indent="-489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tentuan undang-undang pidana tidak dapat diterapkan pada perbuatan yang dilakukan oleh orang sebelum berlakunya undang-undang pidana. Asas ini tidak berlaku mutlak (dapat dikecualikan) oleh ketentuan Pasal 1 (2) KU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9960" indent="-489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as Analogi (tidak boleh dipergunak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9960" indent="-489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ogi : menyelesaikan suatu perkara yang sebenarnya tidak terdapat rumusannya dalam ketentuan tertulis, tetapi menggunakan pasal yang mirip dengan kejahatan it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9960" indent="-489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afsiran yang diperluas diperkenankan dalam hukum pidana, yaitu : menjalankan kaidah suatu undang-undang yang tidak dinyatakan secara te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89960" indent="-489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hadap analogi, pendapat umum menyatakan bahwa analogi dapat dipergunakan sepanjang analogi tersebut digunakan sebagai dasar penghapus pidana atau sebagai dasar yang meringankan pemidaaa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straafuitsluitingsgro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B403-5EF0-496E-A35B-DAF015FD22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3080" indent="-43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Asas-Asas Mengenai Berlakunya KUH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3080" indent="-43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erpetua"/>
              </a:rPr>
              <a:t>Asas Teritorial/Wilay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3080" indent="-43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Berlakunya undang-undang hukum pidana suatu negara disandarkan pada tempat-/teritori dimana perbuatan dilakukan (pasal 2 dan pasal 3 KUH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3080" indent="-43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Perpet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erpetua"/>
              </a:rPr>
              <a:t>Asas Nasionalitas Aktif/Personali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3080" indent="-43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Berlakunya undang-undang hukum pidana suatu negara disandarkan pada kewarganegara-/nasionalitas pelaku perbuatan (pasal 5 dan pasal 7 KUH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3080" indent="-43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Perpet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erpetua"/>
              </a:rPr>
              <a:t>Asas Nasionalitas Pasif/Perlindung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3080" indent="-43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Berlaku undang-undang hukum pidana suatu negara disandarkan pada kepentingan hukum yang dilanggar baik oleh warga negara/orang asing maupun dilakukan di dalam negara yang bersangkutan/di luar negara yang bersangkutan. Berlakunya asas ini mengacu pada asas HTN : setiap negara berdaulat pada umumnya berhak melindungi kepentingan hukumnya (pasal 4 dan pasal 8 KUH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3080" indent="-4330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Perpet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erpetua"/>
              </a:rPr>
              <a:t>Asas Universali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3080" indent="-43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Berlakunya undang-undang hukum pidana suatu negara disandarkan dapat diberlakukan terhadap siapapun yang melanggar kepentingan hukum dari seluruh dunia. Berlakunya asas ini mengacu pada teori fiksi: bahwa di seluruh dunia telah berlaku hukum pidana (pasal 4 ayat (2) dan ayat (4) KUH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6DBE-0060-4923-94AE-80E39D3BF8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mber Hukum Pidana (di Indonesi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5880" indent="-51588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ndang-undang (sumber utama : KUHP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5880" indent="-51588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ebiasaan/adat-istiadat (setelah melalui keputusan penguas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5880" indent="-51588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rakt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5880" indent="-51588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urisprudens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5880" indent="-51588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ndapat pada ahli hukum terken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46D9-D9DB-4AC2-96FA-269502FF85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380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3960" indent="-45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stiwa Pid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960" indent="-453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sikap tindak/perilaku manusia yang masuk lingkup laku perumusan kaedah hukum pidana yang melanggar hukum dan didasarkan pada kesalaha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960" indent="-453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sur-unsur Peristiwa Pid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960" indent="-45396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kap tindak/peri kelakuan manu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960" indent="-45396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lingkup laku perumusan kaedah hukum pidana (pasal 1 ayat (1) KUH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960" indent="-45396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nggar hukum: kecuali bila ada dasar pemben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960" indent="-45396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asarkan pada kesalahan: kecuali bila ada dasar peniadaan kesal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istiwa Pid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E2F7-2F27-450D-A3BE-487C99D839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0666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5440" indent="-505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ategorisasi Peristiwa Pida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urut Doktr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lus dan Cul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lik dolus : perbuatan yang dilaku-kan dengan sengaja yang dilarang dan diancam pida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lik culpa : perbuatan yang dilakukan dengan tidak sengaja, karena kelalai-an/kealpaan, yang dilarang dan dian-cam dengan pida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misionis, Omisionis dan Komisionis Peromisioni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misionis : delik yang terjadi karena seseorang melanggar larangan, yang dapat berupa delik formil/delik materiel pasal 362, pasal 338 KU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isionis : delik yang terjadi karena seseorang melalaikan suruhan (tidak berbuat), biasanya berupa delik formil pasal 164, pasal 165 KU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omisionis peromisionim : delik yang pada umumnya dilakukaan dengan perbuatan tetapi mungkin pula terjadi seolah-olah tanpa sesuatu perbuatan – pasal 338 KU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eriel dan Formil = (kategorisasi berdasarkan perumusan peristiwa pidan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lik yang dilakukan tanpa ada korban (without victim) dan yang menimbulkan korban seorang atau beberapa orang tertentu (with victi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0268-BC92-48F8-8B35-422FB62EE9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51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erpetua"/>
              </a:rPr>
              <a:t>Kategorisasi Peristiwa Pidan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Perpet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erpetua"/>
              </a:rPr>
              <a:t>Menurut KUHP (Sejak Tahun 1918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Kejahatan (dimuat dalam buku II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Pelanggaran (dimuat dalam buku III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5880" indent="-515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F217-5AF1-4C78-A57D-33B3DC7420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3520" indent="-44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Klasifikasi Penanggung Jawab Peristiwa Pidana 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Kesal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erpetua"/>
              </a:rPr>
              <a:t>PENANGGUNG JAWAB PENUH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= setiap orang yang menyebabkan (turut serta menyebabkan) terjadinya peristiwa pida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1584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erpetua"/>
              </a:rPr>
              <a:t>a.</a:t>
            </a:r>
            <a:r>
              <a:rPr b="0" lang="en-US" sz="1800" spc="-1" strike="noStrike">
                <a:solidFill>
                  <a:srgbClr val="ff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Penanggung jawab mandiri (dad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1584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pelaku yang sikap tindakannya memenuhi semua unsur yang disebut dalam perumusan peristiwa pida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1584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erpetua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Penanggung jawab bersama (mededad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orang-orang yang akan menjadi kawan pelaku (peranan antara satu dan lain pelaku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derajatnya sama – harus memenuhi semua unsur peristiwa pidana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Perpetua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Penanggung jawab serta (medepleg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orang-orang yang ikut serta melakukan peristiwa pidana (peranan masing-masing pelaku   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 peristiwa pidana tidak sama derajatnya – satu penanggung jawab mandiri, yang lainnya    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 hanya ikut serta, Penanggung jawab serta tidak memenuhisemua unsur pida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Penanggung jawab penyuruh (doenpleg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seseorang yg menyuruh orang lain melakukan peristiwa pidana (syarat yuridis orang yg     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disuruh tidak mampu bertanggung jawab – manus ministra – hanya instrume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Penanggung jawab pidana ada pada penyuruh – manus domina).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Perpetua"/>
              </a:rPr>
              <a:t>e.</a:t>
            </a:r>
            <a:r>
              <a:rPr b="0" lang="en-US" sz="1800" spc="-1" strike="noStrike">
                <a:solidFill>
                  <a:srgbClr val="ff0000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Perpetu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Penanggung jawab pembujuk (uitlokk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sama halnya dengan penanggung jawab penyuruh, penanggung jawab pembujuk juga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3520" indent="-44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memakai orang lain sebagai perantara penanggung jawab pembujuk dapat dipida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BAF1-E2E3-42F4-8BD8-BF55AF724D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304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05440" indent="-5054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anggung Jawab Sebagian (setiap orang yang bertanggung jawab atas bantuan, percobaan terhadap suatu kejahat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cob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aksanaan permulaan suatu kejahatan tidak selesai dilakukan semata-mata karena hal-hal/masalah-masalah yang terjadi di luar kehendakn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gung Jawab Bantuan (medeplechti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dana barang siapa dengan sengaja : membantu, memberi kesempatan, daya upaya/keterangan untuk melakukan kejahatan (pasal 56 KUH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salahan (dilihat dari sudut bentukny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buatan yang mengandung unsur sengaja (opze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5440" indent="-505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buatan yang mengandung unsur lalai/kurang hati-ha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154A-1ADF-44C2-99E9-E812984521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8800" indent="-568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AutoNum type="romanUcPeriod"/>
              <a:tabLst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Perubahan Penggunaan Huku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Yang Menghapuskan (strafuitsluit Ing Gronden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a.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Dari dalam Pribadi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Pasal 44 ayat (1) da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Pasal 45 KUHP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b.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Dari Keadaan di Sekitar-Nya (dari luar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Overmacht (berat lawan) Pasal 48 KUHP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Noodtoestand (keadaan darurat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a.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Dua kepentingan hukum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b.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Kepentingan hukum dan kewajiban hukum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c.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Dua kewajiban hukum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Noodweer (bela diri) Pasal 49 KUHP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Melaksanakan Undang-Undang (Pasal 50 KUHP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Perpetua"/>
              </a:rPr>
              <a:t>Melaksanakan Perintah Jabatan (Pasal 51 KUHP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Perpetua"/>
              <a:buChar char="-"/>
              <a:tabLst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8800" indent="-56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5760"/>
                <a:tab algn="l" pos="1542960"/>
                <a:tab algn="l" pos="182880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4CCC-16B4-468F-B61F-B9F2A02CD3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Yang Meringankan (Strafvermindering Gron-den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74560" indent="-5745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1.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Percobaan (poging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74560" indent="-5745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2.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Perbantuan (medeplechtige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74560" indent="-5745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3.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Belum Dewas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74560" indent="-5745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Yang Memberatka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74560" indent="-5745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1.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Pasal 52 KUH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74560" indent="-5745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2.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Recidiv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74560" indent="-5745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3.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Gabungan (samenloop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9A17-9BD0-4380-8939-3D59B84BB4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4560" y="45720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gertian Hukum Pid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kum pidana materiil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ius Poenale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ngandung petunjuk-petunjuk &amp; uraian tentang delik, peraturan-peraturan tentang syarat-syarat hal dapat dipidananya seseorang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straafbaarhei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kum pidana materiil: semua peraturan yang merumuskan tentang perbuatan apa yang dapat dihukum, siapa yang dapat dihukum dan hukuman apa yang dapat diterapk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kum pidana umum: yang berlaku bagi siapa sa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kum pidana khusus: yang berlaku bagi orang-orang tert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F074-14FE-4E2D-B3FA-451837E658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380520"/>
            <a:ext cx="80010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Hukum Pidana formil </a:t>
            </a:r>
            <a:r>
              <a:rPr b="0" i="1" lang="en-US" sz="2800" spc="-1" strike="noStrike">
                <a:solidFill>
                  <a:srgbClr val="ffffff"/>
                </a:solidFill>
                <a:latin typeface="Perpetua"/>
              </a:rPr>
              <a:t>(Ius Puniendi)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 yaitu mengatur tentang cara negara dengan perantaraan para pejabatnya menggunakan haknya untuk memidana (Sim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Perpetua"/>
              </a:rPr>
              <a:t>Ius Puniendi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 merupakan hak yang dimiliki oleh alat kelengkapan negara, negaralah yang memiliki hak untuk menjatuhkan sanksi pid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Perpetua"/>
              </a:rPr>
              <a:t>Utrecht &amp; Van Kaan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berpendapat bahwa hukum pidana merupakan hukum sanksi. Hukum Pidana menurut Andi Hamzah merupakan kode moral suatu bang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Perpetua"/>
              </a:rPr>
              <a:t>Van Bemmelen 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berpendapat bahwa hukum pidana merupakan ultimuum remedium (obat terakhir), jika hukum lain tidak mampu maka hukum pidana baru diterap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E0B2-C2C7-4EA6-977E-FF85930B5E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33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Perpetu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Sejarah Hukum Pidan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Hukum Pidana sudah ada sejak masa Pemerintahan Dharmawangsa (tahun 1000 M), dan juga awig-awig di Bal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erpetua"/>
              </a:rPr>
              <a:t>Pada masa VOC berlaku hukum Pidana VOC berbentuk: dibakar, ditusuk, dicap bakar, dipukuli dengan rantai, dipenjara, kerja paks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0CA3-C881-4FBF-B7A7-0A56191C38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kum Pidana pd jaman VOC berlaku ketika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langgaran hukum adat yang dilakukan tidak ada hukumannya, maka sesuai dengan hukum negara, Gub. Jend berhak menentukan huku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kuman yang dijatuhkan dalam hukum adat tidak sesuai dengan prinsip keadilan (terlalu berat-terlalu ring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kti-bukti yang digunakan dalam hukum adat tidak cuk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simpulan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hwa pada masa Kolonial VOC berlaku pluralisme hukum pidana : Hukum Pidana VOC dan Hukum Pidana Ad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469B-C46B-4723-88EA-8E145A0925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58120" indent="-25812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Hukum Pidana pd jaman Gubernur Jenderal Ingg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8120" indent="-25812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Tahun 1811 – 1816 Inggris menguasai Indonesia dan merubah hukum pidana Belanda, antara lai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8120" indent="-25812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Ruang siksaan dihapusk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8120" indent="-25812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Orang Inggris tidak boleh dihukum lebih berat dari ketentuan Ingg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8120" indent="-25812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Hukuman bagi Orang Inggris harus disetujui Letnan Gubernur Ingg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8120" indent="-25812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Tahun 1848 – 1873 diupayakan kodifikasi hukum pid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8120" indent="-25812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Hukum Pidana materiil dikodifikasi ke dalam KUHP, sedang hukum pidana formil dikodifikasikan ke dalam KU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8120" indent="-25812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8120" indent="-258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C420-EEFF-43A9-BEFD-90BC001426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stematika KUH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UHP terdiri atas 3 bagian besar  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uku I : berisi aturan dan ketentuan umum yang memuat asas/prinsip serta peraturan umum yang terdapat dalam KUHP (Pasal 1 – 103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uku II : berisi aturan yang berkaitan dengan Kejahatan (Pasal 104 – 488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uku III : berisi aturan yang berkaitan dengan Pelanggaran (Pasal 489 – 569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3CF9-3536-4610-A2D3-4DD33E4C97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sas pd Hukum Pidan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sal 1 (1) KUHP 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Nullum delictum nulla poena sena preve lege poenali,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tidak ada satu aturan hukum tanpa adanya peraturan tertulis terlebih dahul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nsur –Unsur Pasal 1 (1) 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etentuan pidana harus tertuli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idak dapat berlaku suru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just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idak boleh digunakan analog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30C9-9538-4414-A6E6-F29505A746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4040" indent="-46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ffff"/>
                </a:solidFill>
                <a:latin typeface="Perpetua"/>
              </a:rPr>
              <a:t>Asas Legalitas (ketentuan pidana harus tertul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4040" indent="-46404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Perpetua"/>
              </a:rPr>
              <a:t>Diperkenalkan pertama kali oleh Montesquiue, Rousseau serta von Feurbach. Asas ini bertujuan untuk menghindari kesewenang-wenangan penguasa. Hal yang penting dengan adanya asas ini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4040" indent="-46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id-ID" sz="2000" spc="-1" strike="noStrike">
                <a:solidFill>
                  <a:srgbClr val="ffffff"/>
                </a:solidFill>
                <a:latin typeface="Perpetua"/>
              </a:rPr>
              <a:t>Adanya kebebasan indivi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4040" indent="-46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id-ID" sz="2000" spc="-1" strike="noStrike">
                <a:solidFill>
                  <a:srgbClr val="ffffff"/>
                </a:solidFill>
                <a:latin typeface="Perpetua"/>
              </a:rPr>
              <a:t>Tidak adanya kesewenang-wenangan pengua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4040" indent="-46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id-ID" sz="2000" spc="-1" strike="noStrike">
                <a:solidFill>
                  <a:srgbClr val="ffffff"/>
                </a:solidFill>
                <a:latin typeface="Perpetua"/>
              </a:rPr>
              <a:t>Masyarakat dapat mengetahui kategori tindak pida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4040" indent="-46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ffff"/>
                </a:solidFill>
                <a:latin typeface="Perpetua"/>
              </a:rPr>
              <a:t>Pendapat yang menentang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4040" indent="-46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id-ID" sz="2000" spc="-1" strike="noStrike">
                <a:solidFill>
                  <a:srgbClr val="ffffff"/>
                </a:solidFill>
                <a:latin typeface="Perpetua"/>
              </a:rPr>
              <a:t>Akan banyak pelaku tindak pidana yang tidak dapat dipidana karena mungkin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id-ID" sz="2000" spc="-1" strike="noStrike">
                <a:solidFill>
                  <a:srgbClr val="ffffff"/>
                </a:solidFill>
                <a:latin typeface="Perpetua"/>
              </a:rPr>
              <a:t>tindakannya belum tertuang di dalam rumusan undang-undang pida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4040" indent="-46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id-ID" sz="2000" spc="-1" strike="noStrike">
                <a:solidFill>
                  <a:srgbClr val="ffffff"/>
                </a:solidFill>
                <a:latin typeface="Perpetua"/>
              </a:rPr>
              <a:t>Beberapa negara (Inggris &amp; negara jajahannya) tidak menerapkan asas legalitas karena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id-ID" sz="2000" spc="-1" strike="noStrike">
                <a:solidFill>
                  <a:srgbClr val="ffffff"/>
                </a:solidFill>
                <a:latin typeface="Perpetua"/>
              </a:rPr>
              <a:t>tingginya integritas hakim dan juri peradilan, sehingga tidak dikhawatirkan terjadi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	</a:t>
            </a:r>
            <a:r>
              <a:rPr b="0" lang="id-ID" sz="2000" spc="-1" strike="noStrike">
                <a:solidFill>
                  <a:srgbClr val="ffffff"/>
                </a:solidFill>
                <a:latin typeface="Perpetua"/>
              </a:rPr>
              <a:t>kesewenang-wenang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4040" indent="-464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Perpetua"/>
              </a:rPr>
              <a:t>Menurut Prof. Andi Hamzah, SH. akan sangat berbahaya jika asas ini tidak diterapkan khususnya pada negara-negara berkembang, karena dikhawatirkan akan terjadi kewewenang-wenang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2:08:00Z</dcterms:created>
  <dc:creator>eXPerience</dc:creator>
  <dc:description/>
  <dc:language>en-US</dc:language>
  <cp:lastModifiedBy>Fully Handayani-PDH</cp:lastModifiedBy>
  <dcterms:modified xsi:type="dcterms:W3CDTF">2012-08-19T14:39:22Z</dcterms:modified>
  <cp:revision>45</cp:revision>
  <dc:subject/>
  <dc:title>PENGANTAR HUKUM INDONESIA MATERI  HUKUM  PIDANA</dc:title>
</cp:coreProperties>
</file>